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D2C1-E7EB-4619-B7E2-B847B5AAC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E5C8-FD32-4D26-9B05-2F53A9281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00D9-97F7-4144-89C7-1D284001B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375F-D9E0-472D-9161-9B3E109C0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00D5-E062-4E94-BDE8-F18B77F6A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6D9E-7E5C-41EA-B490-22DBD3DC2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BA48-A79B-4268-B99A-094913694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A103-7CBF-44F1-8810-7E3635577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9748-156A-4E6E-AE6B-2B66653A0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DD14-233E-4F25-BD18-7569EFCF8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8220-643D-4D72-9017-7536E4F68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27AA-D290-4681-BEA2-53EEB8245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597B-F0C5-4397-8612-A9AEBB66E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3628-444C-484C-90AE-EF39EB03B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595A-CF75-4810-B756-2CBA69075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C48C-0E2A-4A18-9DC0-8737E4B72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E0FB-7DF0-4D92-BDF9-229F212B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5F77-DED8-45E4-B61E-280563B8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D5AD-E865-4FF8-A0B8-B93E6C62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B2E7-2D42-4064-BCC4-1A737690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5C59-6BAA-47A0-9F54-58CF72A6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47D9-7F08-48A3-88B5-F9AEB93C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2B47-3A93-42B0-8809-2FEED9B9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A9DF-963C-4178-A7BB-846DBBAB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7DED-9521-47ED-9E44-68C96158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130C-F1DE-46E3-ACAB-C97F65A9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7F84-434A-4F38-B678-ED4E9D36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1379-EDC7-4D85-A9F6-1E869803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2947-A3C3-4C3D-94DF-3C83835EB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33520" y="0"/>
            <a:ext cx="8839080" cy="77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he Great Gat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 not politically corr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.  Does not reveal how to solv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 lif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i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Mad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ati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holding up human vices and follies to ridicule or sc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. Social history of a select grou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ootleggers, stock market embezz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d crime, people in the fast t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36440" y="189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52280" y="228600"/>
            <a:ext cx="883944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UCHANA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LACK INNER RESOURCES TO ENJOY WHAT THEIR WEALTH CAN GIV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M BUCHAN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BRUTALIZED BY SELFISHNESS AND ARROG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FAITH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R AND REPRESENTATIVE OF THE MORAL WASTELAND WHICH HAS REPLACED AMERICAN IDE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 OF ACTION BASED ON SELF-PRESERVATION RATHER THAN ANY IDEAL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04920" y="0"/>
            <a:ext cx="91440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ISY: Typical Fitzgerald 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an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ly parasi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ally frigid despite of their sentiment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zgerald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ttitude toward women was always one of distrust because of his experience with Zel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04920" y="142920"/>
            <a:ext cx="8839080" cy="67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AISY BUCHAN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Y TOO MUCH OF A CHILD TO CONTROL HER DELIGHT IN ANY NEW PLAYTHING (GATSBY, TOM, PAMM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FULL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N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KEY TO ALL MAGIC OF DAI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SI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RIT OF WEALTH AND OFFERS CONTINUAL PROMISE (VOICE). HOWEVER IT IS A FALSE PROMISE SINCE AT HEART SHE IS AS SELF-CENTERD AS 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SB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DREAM, AND CAUSE OF WASTED IDE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69840" y="351000"/>
            <a:ext cx="883908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ORDAN B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PPORTUNIST – SEES NICK AS A PERSON SHE CAN RELY ON IF ANYTHING GOES W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*** NOT LOVE BUT TAKING ADVANTAG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ORGE WIL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OYED BY THE FACT THAT HE HOLDS IDEALS OF HONOR (HE ACTUALLY LOVES HIS W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MORAL WASTELAND PEOPLE WHO TRULY LOVE ARE VULNERABLE (NICK,GATSBY,MR. WILS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98440" y="141120"/>
            <a:ext cx="883908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R. T. J. ECKLEBURG 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IC OF THE CHIEF CHARACTERS’ BLINDNESS  (GLASSES ARE YELLOW, PURE SIGHT IS DISTORTED BY MATERIALIS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SBY DOES NOT SEE DAIS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VICIOUS EMPT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ISY THINKS SHE CAN SEE HER WAY AND DUMP 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152280" y="235080"/>
            <a:ext cx="868680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M IS BLIND TO HYPOCRISY (HE CAN CHEAT BUT HIS WIFE CAN’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RTLE MISTAKES TOM FOR SALVATION FROM THE WAST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E WILSON SEES GATSBY AS WIF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MURDE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WHOLE NOVEL ONLY NICK SEES. HIS VISION COMES SLOWLY AND FINALLY DECIDES THAT GATSBY IS THE BEST OF THE WHOLE CROWD. HE SEES GATSBY AS JUST A DREAMER/ROMA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03320" y="76320"/>
            <a:ext cx="8839080" cy="62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s disillusionment and hedonism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azz 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hows immorality and the corruption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American D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ocence murdered for wealth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wasting away of self as one grows into the world of sex and money. A wasting away of American people as we grow from wilderness to civ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8. Happiness =mon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28600" y="0"/>
            <a:ext cx="9144000" cy="54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itle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he Great Gat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makes Gatsby “great” is the commitment to his d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djective “Great” also indicates the tawdry and  exaggerated aspects of his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told by Nick Carroway-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erson trustworthy reporter and reluctantly jud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28600" y="0"/>
            <a:ext cx="9144000" cy="66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jor 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RRUPTION OF THE AMERICAN DRE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capturing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utability (chan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Great Gat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T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WEST AND EAST EGG, NEW YORK 1922 (see m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FLI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WO OR MORE OPPOSED FORCES IN A WORK OF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FLICT IN GATSB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males are fighting over one fem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REAMER REMAINS PURE—REALITY BECOMES STARK CORRUPTION AND PREDATORY VIO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04920" y="304920"/>
            <a:ext cx="883908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AY GATS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JAMES GAT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MATIZATION OF THE FALSE D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ISM IS ITSELF AN IDEAL IN ORDER TO WIN DAI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S COMPLETELY WITHOUT A STANDARD OF EITHER MORAL CODE OR SOCIAL PER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 REALIZATION IS MATERIAL ACQUISITION AT ANY COST, IT IS AN IDENTITY FOUNDED ON FAÇADE AND A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DEPENDS FOR ITS VERY EXISTANCE UPON ILLUSION. THE END RESULT MUST BE DESTRU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457200" y="355680"/>
            <a:ext cx="883908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NOT EVIL BUT WASTED GOODNESS, WASTED AMBITION- HE WANTED TO WIN HER BY MATERIAL ACQUI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RAD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PIRITUAL VALUES REDUCED TO VULGARITY AND MATERI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MISPLACED FAITH IN MATERI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8"/>
          <p:cNvSpPr/>
          <p:nvPr/>
        </p:nvSpPr>
        <p:spPr>
          <a:xfrm>
            <a:off x="228600" y="304920"/>
            <a:ext cx="87631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ATSBY</a:t>
            </a:r>
            <a:r>
              <a:rPr b="1" lang="ja-JP" sz="2800" spc="-1" strike="noStrike" u="sng">
                <a:solidFill>
                  <a:srgbClr val="000000"/>
                </a:solidFill>
                <a:uFillTx/>
                <a:latin typeface="Arial"/>
              </a:rPr>
              <a:t>’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 DI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THE DECAY OF THE AMERICAN DREAM (SUCCESS) THROUGH SELF IMPROVEMENT AND HARD WORK COMPARED TO GATSB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ACTIONS AND VALUES AS AN AD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ATSB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CORRUPTED AMERICAN DREAM,INNOCENCE, AND DRE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41400" y="0"/>
            <a:ext cx="929628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ick Carrow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aditional moral codes which has made America great before WW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pe for moral and spiritual growth in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character that has not been corrupted by seeking or spending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acted by beauty but recognizes the emptiness and gaudy display of nothingness that represents the wast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13:56:05Z</dcterms:created>
  <dc:creator>staff</dc:creator>
  <dc:description/>
  <dc:language>en-US</dc:language>
  <cp:lastModifiedBy>test</cp:lastModifiedBy>
  <dcterms:modified xsi:type="dcterms:W3CDTF">2014-11-10T20:26:10Z</dcterms:modified>
  <cp:revision>31</cp:revision>
  <dc:subject/>
  <dc:title>Slide 1</dc:title>
</cp:coreProperties>
</file>